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4628F-1F98-48EF-91FF-4597796339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EFD4F-7739-460B-9508-AC49488CF2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A6853-B2E8-4176-9400-ADCC7391F9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3A674-232A-41A5-B15B-9D6D8074EC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7FE71-CCAA-4C53-ADA2-C13BA2C87E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724F6-38A5-44CE-8F3C-50995ECB6A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31D80-16D0-4EB9-9A4A-578B5125F9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B31A6-2A6F-4C90-81F2-FE2DC997C3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E5265-7697-4456-8781-CFBA5D4505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4B1B0-5725-4581-B8C2-5518C4FDFE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0E516-5AF8-4FA2-A6B3-65946E6A73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66836-D317-47ED-AA9D-6F7B26DFA9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Global Business Transform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B19A6-5640-44B5-A25D-C34EDEDEEBDA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4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  <p:sp>
        <p:nvSpPr>
          <p:cNvPr id="30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1155600" y="4070520"/>
            <a:ext cx="2075040" cy="3013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115000"/>
              </a:lnSpc>
              <a:spcBef>
                <a:spcPts val="56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1812960"/>
            <a:ext cx="630072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4 WDI / WBIC Customer Conference </a:t>
            </a:r>
            <a:br>
              <a:rPr sz="28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lobal Business Trans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556080" y="3335400"/>
            <a:ext cx="558792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Look Back as we Move Forwa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andy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7205760" y="3728880"/>
          <a:ext cx="1746000" cy="98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05760" y="3728880"/>
                    <a:ext cx="1746000" cy="98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ummary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72640" y="14317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ose who cannot remember the past are condemned to repeat it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-George Santay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Objectives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12920" y="1461600"/>
            <a:ext cx="8346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story of DISA – celebrating its 2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story of DI / WDI – celebrating its 1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ye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olution of E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I to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I for the fu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65240" y="2138400"/>
            <a:ext cx="8605800" cy="26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Those who cannot remember the past are condemned to repeat it.”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-George Santayan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f you don’t take a mental picture to see where you were versus where you are – you will never realize just how far you have come.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andy Smith,  eSI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Looking back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12400" y="1068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89 - Events of the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an Family Income: $34,2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an Price Of A New House: $120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Car: $14,645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lon of Gas: $1.06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af Of Bread: $0.7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age Stamp: $0.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me Interest Rate Reaches 21.5%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History of DISA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12760" y="1122120"/>
            <a:ext cx="7413840" cy="465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79 - ANSI designated an “Accredited Standards Committee for EDI – ASC X1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79 - First standard based on TDCC structu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82 - Publication of Version 1 of American National Standards, which are ANSI certified releases of draft X12 standard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86 - X12F Finance Subcommittee forms to serve the B2B needs of the financial industr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90 - Alignment Task Group to recommend steps to converge X12 standards and EDIFACT messag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91 - X12N Insurance Subcommittee created to serve the B2B need of the insurance and healthcare industry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96 - ASC X12 is instrumental in having language included in HIPA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98 - ASC X12 eyes modeled approach to Object Oriented EDI and the potential synergy of X12 EDI and XML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0 - The Health Insurance Portability &amp; Accountability Act (HIPAA) transaction regulation is published adopting nine X12 transactions for the health care industry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3 - Gartner praises ASC X12's syntax neutral architecture - Context Inspired Component Architecture - enabling the development of XML business messages and encourages a CICA-like approach for XML business developmen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History of DI/WDI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12400" y="1068480"/>
            <a:ext cx="3411720" cy="35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8280" indent="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2426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89 - Version 1.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2426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90 - version 1.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2426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91 - Version 1.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2426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93 - Version 1.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2426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95 - Version 1.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2426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97 - Version 2.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2426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98 - Version 3.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2426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2 - WDI 3.1 MP 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2426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2 - WDI 3.2 MP 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2426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3 - WDI 3.2 z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volution  of EDI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211400" y="1273320"/>
            <a:ext cx="4714560" cy="39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50960" indent="-2858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.12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FAC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89 - 203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89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0 - 204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90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1 - 3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91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3 - 303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93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5 - 305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95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7 - 307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97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8 - 4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98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000 - 403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00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004 - 5010 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04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DI Today and Tomorrow </a:t>
            </a:r>
            <a:br>
              <a:rPr sz="2400"/>
            </a:br>
            <a:r>
              <a:rPr b="1" lang="en-US" sz="2400" spc="-1" strike="noStrike">
                <a:solidFill>
                  <a:srgbClr val="7889fb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7889fb"/>
                </a:solidFill>
                <a:latin typeface="Arial"/>
              </a:rPr>
              <a:t>The tides have turned)</a:t>
            </a:r>
            <a:endParaRPr b="0" lang="en-US" sz="1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 renew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ne 14, 2004 – Computerworld - EDI: Alive and Well After All These Years - Transactions increase despite XML op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iant opens his e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ch 22, 2004 – ZDNet - Microsoft updates business offerings - The company said the network can now process documents based on the electronic data interchange (EDI) standar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I and XML co-exi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DI Today and Tomorrow </a:t>
            </a:r>
            <a:br>
              <a:rPr sz="2400"/>
            </a:br>
            <a:r>
              <a:rPr b="1" lang="en-US" sz="2400" spc="-1" strike="noStrike">
                <a:solidFill>
                  <a:srgbClr val="7889fb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7889fb"/>
                </a:solidFill>
                <a:latin typeface="Arial"/>
              </a:rPr>
              <a:t>The tides have turned)</a:t>
            </a:r>
            <a:endParaRPr b="0" lang="en-US" sz="1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DI 3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I is still going str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rester research Inc - 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IBM_User</cp:lastModifiedBy>
  <dcterms:modified xsi:type="dcterms:W3CDTF">2004-09-09T17:48:02Z</dcterms:modified>
  <cp:revision>887</cp:revision>
  <dc:subject/>
  <dc:title>IBM Software Group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79654978</vt:r8>
  </property>
  <property fmtid="{D5CDD505-2E9C-101B-9397-08002B2CF9AE}" pid="3" name="_AuthorEmail">
    <vt:lpwstr>Charles.Ferrise@bnsf.com</vt:lpwstr>
  </property>
  <property fmtid="{D5CDD505-2E9C-101B-9397-08002B2CF9AE}" pid="4" name="_AuthorEmailDisplayName">
    <vt:lpwstr>Ferrise, Charles W</vt:lpwstr>
  </property>
  <property fmtid="{D5CDD505-2E9C-101B-9397-08002B2CF9AE}" pid="5" name="_EmailSubject">
    <vt:lpwstr>Th-LookBack.ppt</vt:lpwstr>
  </property>
  <property fmtid="{D5CDD505-2E9C-101B-9397-08002B2CF9AE}" pid="6" name="_ReviewingToolsShownOnce">
    <vt:lpwstr/>
  </property>
</Properties>
</file>