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wmf" ContentType="image/x-wmf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9.wmf" ContentType="image/x-wmf"/>
  <Override PartName="/ppt/media/image16.wmf" ContentType="image/x-wmf"/>
  <Override PartName="/ppt/media/image14.wmf" ContentType="image/x-wmf"/>
  <Override PartName="/ppt/media/image1.png" ContentType="image/png"/>
  <Override PartName="/ppt/media/image5.jpeg" ContentType="image/jpeg"/>
  <Override PartName="/ppt/media/image18.wmf" ContentType="image/x-wmf"/>
  <Override PartName="/ppt/media/image2.jpeg" ContentType="image/jpeg"/>
  <Override PartName="/ppt/media/image11.wmf" ContentType="image/x-wmf"/>
  <Override PartName="/ppt/media/image3.png" ContentType="image/png"/>
  <Override PartName="/ppt/media/image6.jpeg" ContentType="image/jpeg"/>
  <Override PartName="/ppt/media/image12.wmf" ContentType="image/x-wmf"/>
  <Override PartName="/ppt/media/image4.png" ContentType="image/png"/>
  <Override PartName="/ppt/media/image15.wmf" ContentType="image/x-wmf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EC2537-D813-4327-A0D1-20FA6F6123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50FB4-A47F-449D-9918-BE517A57C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0F28-6916-49ED-BA73-07DFF7923F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1785C-431E-4C98-9799-B0905E3496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5EE1-807C-413C-AA8A-FDFA6A4979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BBA6E-518B-474A-91A2-502299FD9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2A2B5-3920-4F5B-8A2A-9F303CCAD5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8D936-D584-4721-B8F8-B90C66091F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22400" y="545760"/>
            <a:ext cx="824544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C0F03-5881-4FC3-B214-84CC5A69A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5DEA-23CA-4764-B0D9-661108AF5E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E81BE0-9DC8-4925-A747-F72B967FD6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47499-E6DB-46C8-BEA4-78AFD6276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47532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9144000" cy="382680"/>
          </a:xfrm>
          <a:prstGeom prst="rect">
            <a:avLst/>
          </a:prstGeom>
          <a:solidFill>
            <a:srgbClr val="7889fb"/>
          </a:solidFill>
          <a:ln w="324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15000"/>
              </a:lnSpc>
              <a:buClr>
                <a:srgbClr val="2db6b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15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437480" y="52560"/>
            <a:ext cx="371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  |  WebSphere softwar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502320"/>
            <a:ext cx="59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Global Business Transformation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154080" y="65019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EE85-3F98-4D92-B64C-961948BE78B2}" type="slidenum">
              <a:rPr b="1" lang="en-US" sz="10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8461440" y="61920"/>
            <a:ext cx="622080" cy="24768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9315360" y="-133200"/>
            <a:ext cx="1629000" cy="19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any 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Background should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not be modified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2273400" y="7067520"/>
            <a:ext cx="469080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itle/subtitle/confidentiality line: 10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 flipV="1">
            <a:off x="229068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flipV="1">
            <a:off x="761364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 flipH="1">
            <a:off x="9175320" y="21096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 flipH="1">
            <a:off x="9175320" y="14860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-1131840" y="14760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 flipH="1">
            <a:off x="-1073520" y="1139760"/>
            <a:ext cx="1001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-2335320" y="1014480"/>
            <a:ext cx="2159280" cy="9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heading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blue R120 | G137 | B251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Maximum length: 2 lines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lide body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4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Square bullet color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teal R045 | G182 | B179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text length: 5 principal poi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-2335320" y="1584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4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7613640" y="7072200"/>
            <a:ext cx="173520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4480" indent="-11448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311040" y="6889680"/>
            <a:ext cx="2119320" cy="671760"/>
            <a:chOff x="311040" y="6889680"/>
            <a:chExt cx="2119320" cy="671760"/>
          </a:xfrm>
        </p:grpSpPr>
        <p:sp>
          <p:nvSpPr>
            <p:cNvPr id="20" name=""/>
            <p:cNvSpPr/>
            <p:nvPr/>
          </p:nvSpPr>
          <p:spPr>
            <a:xfrm>
              <a:off x="311040" y="7067520"/>
              <a:ext cx="2119320" cy="4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tional slide number: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0pt Arial Bold, white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V="1">
              <a:off x="326880" y="6889680"/>
              <a:ext cx="1440" cy="3650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" name=""/>
          <p:cNvSpPr/>
          <p:nvPr/>
        </p:nvSpPr>
        <p:spPr>
          <a:xfrm>
            <a:off x="0" y="-647640"/>
            <a:ext cx="96314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"/>
          <p:cNvSpPr/>
          <p:nvPr/>
        </p:nvSpPr>
        <p:spPr>
          <a:xfrm flipH="1">
            <a:off x="-1263600" y="3189240"/>
            <a:ext cx="11923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"/>
          <p:cNvSpPr/>
          <p:nvPr/>
        </p:nvSpPr>
        <p:spPr>
          <a:xfrm>
            <a:off x="1447920" y="141120"/>
            <a:ext cx="0" cy="238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"/>
          <p:cNvSpPr/>
          <p:nvPr/>
        </p:nvSpPr>
        <p:spPr>
          <a:xfrm>
            <a:off x="1447920" y="647856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"/>
          <p:cNvSpPr/>
          <p:nvPr/>
        </p:nvSpPr>
        <p:spPr>
          <a:xfrm>
            <a:off x="0" y="6175440"/>
            <a:ext cx="1457280" cy="29988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" name="" descr=""/>
          <p:cNvPicPr/>
          <p:nvPr/>
        </p:nvPicPr>
        <p:blipFill>
          <a:blip r:embed="rId3"/>
          <a:stretch/>
        </p:blipFill>
        <p:spPr>
          <a:xfrm>
            <a:off x="1442880" y="6175440"/>
            <a:ext cx="7710480" cy="299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90240" y="2493720"/>
            <a:ext cx="79549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16744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7889fb"/>
          </a:solidFill>
          <a:ln w="9360">
            <a:solidFill>
              <a:srgbClr val="7889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rcRect l="0" t="0" r="6654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2006640" y="1287360"/>
            <a:ext cx="410364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IBM Software Group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62200" y="5491080"/>
            <a:ext cx="444168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62280" y="1361880"/>
            <a:ext cx="0" cy="331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162160" y="7067520"/>
            <a:ext cx="469116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onfidentiality/date line: 13pt Arial Regular, whit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formation separated by vertical strokes,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ith two spaces on either sid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Disclaimer information may also be appear in this area.  Place flush left, aligned at bottom, 8-10pt Arial 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9315360" y="630360"/>
            <a:ext cx="167184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BM logo must not be moved, added to, or altered in any way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-1131840" y="1417680"/>
            <a:ext cx="106056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-857520" y="2665440"/>
            <a:ext cx="785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V="1">
            <a:off x="2179800" y="6889680"/>
            <a:ext cx="144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9175320" y="893880"/>
            <a:ext cx="2746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113520" y="-1346040"/>
            <a:ext cx="3016080" cy="1139760"/>
          </a:xfrm>
          <a:prstGeom prst="rect">
            <a:avLst/>
          </a:prstGeom>
          <a:noFill/>
          <a:ln w="9360">
            <a:solidFill>
              <a:srgbClr val="5a70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Indications in green = Live content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Indications in white  = Edit  in mas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Indications in blue    = Locked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dications in black   = Optional elemen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-2335320" y="2540160"/>
            <a:ext cx="2159280" cy="97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cc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Presentation title:</a:t>
            </a: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28pt Arial Regular, black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ccff99"/>
                </a:solidFill>
                <a:latin typeface="Arial"/>
                <a:ea typeface="Arial"/>
              </a:rPr>
              <a:t>Recommended maximum length:  2 li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-2335320" y="1285920"/>
            <a:ext cx="215928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22400" indent="-122400">
              <a:lnSpc>
                <a:spcPct val="90000"/>
              </a:lnSpc>
              <a:spcAft>
                <a:spcPts val="3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Group name: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17pt Arial Regular, white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Maximum length: 1 li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513560" y="7072200"/>
            <a:ext cx="184968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Copyright: 10pt Arial</a:t>
            </a:r>
            <a:br>
              <a:rPr sz="1200"/>
            </a:br>
            <a:r>
              <a:rPr b="0" lang="en-US" sz="1200" spc="-1" strike="noStrike">
                <a:solidFill>
                  <a:srgbClr val="ccccff"/>
                </a:solidFill>
                <a:latin typeface="Arial"/>
                <a:ea typeface="Arial"/>
              </a:rPr>
              <a:t>Regular, whit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513560" y="6889680"/>
            <a:ext cx="1800" cy="3650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-647640"/>
            <a:ext cx="571500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emplate release: Oct 02</a:t>
            </a:r>
            <a:br>
              <a:rPr sz="1600"/>
            </a:b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For the latest, go to http://w3.ibm.com/ibm/presentation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315360" y="4008600"/>
            <a:ext cx="1629000" cy="191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15920" indent="-115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For client presentations, client’s logo may go in this a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9175320" y="4341960"/>
            <a:ext cx="2746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6842160" y="5418000"/>
            <a:ext cx="1946160" cy="352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0" y="4716360"/>
            <a:ext cx="471600" cy="457200"/>
          </a:xfrm>
          <a:prstGeom prst="rect">
            <a:avLst/>
          </a:prstGeom>
          <a:solidFill>
            <a:srgbClr val="855a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4716360"/>
            <a:ext cx="471600" cy="45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936720" y="4716360"/>
            <a:ext cx="471240" cy="457200"/>
          </a:xfrm>
          <a:prstGeom prst="rect">
            <a:avLst/>
          </a:prstGeom>
          <a:solidFill>
            <a:srgbClr val="01a9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05080" y="4716360"/>
            <a:ext cx="471240" cy="4572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1155600" y="4070520"/>
            <a:ext cx="2075040" cy="301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1863720" y="4711680"/>
            <a:ext cx="7294680" cy="45576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2db6b3"/>
                </a:solidFill>
                <a:latin typeface="Arial"/>
              </a:rPr>
              <a:t>Click to edit the outline text format</a:t>
            </a:r>
            <a:endParaRPr b="0" lang="en-US" sz="1000" spc="-1" strike="noStrike">
              <a:solidFill>
                <a:srgbClr val="2db6b3"/>
              </a:solidFill>
              <a:latin typeface="Arial"/>
            </a:endParaRPr>
          </a:p>
          <a:p>
            <a:pPr lvl="1" marL="457200" indent="7920" algn="ctr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15000"/>
              </a:lnSpc>
              <a:spcBef>
                <a:spcPts val="45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15000"/>
              </a:lnSpc>
              <a:spcBef>
                <a:spcPts val="561"/>
              </a:spcBef>
              <a:buClr>
                <a:srgbClr val="2db6b3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1812960"/>
            <a:ext cx="6300720" cy="7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04 WDI / WBIC Customer Conference </a:t>
            </a:r>
            <a:br>
              <a:rPr sz="2800"/>
            </a:b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Global Business Trans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72040" y="3705120"/>
            <a:ext cx="37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556080" y="3335400"/>
            <a:ext cx="558792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dventures in Migr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ettyann Johnsen, MetLif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Installation of Multiple Fixpack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difference between CSDs, Fixpacks, APARs and PTFs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t used to installing…it builds confidenc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29040" y="3687840"/>
            <a:ext cx="2369880" cy="181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E3429-F3D4-4EF3-A68B-51831E7D0BC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Documentation for End User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047240" y="2955600"/>
            <a:ext cx="734868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share drive for end users/site support to access software, Fixpack's and manu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d installation instructions specific to Met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ing multiple systems within WDI 3.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602320" y="668160"/>
            <a:ext cx="2566800" cy="2316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543E6-03F9-4ABD-991A-88C78EA7009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2040" y="545760"/>
            <a:ext cx="5770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etLife Client-Server Configu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00200" y="3070080"/>
            <a:ext cx="1720800" cy="595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DI 3.2 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21160" y="3097080"/>
            <a:ext cx="1549440" cy="5828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B2Connec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/>
          <p:nvPr/>
        </p:nvCxnSpPr>
        <p:spPr>
          <a:xfrm>
            <a:off x="2606400" y="3373200"/>
            <a:ext cx="72756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4" name=""/>
          <p:cNvCxnSpPr>
            <a:stCxn id="161" idx="3"/>
            <a:endCxn id="162" idx="1"/>
          </p:cNvCxnSpPr>
          <p:nvPr/>
        </p:nvCxnSpPr>
        <p:spPr>
          <a:xfrm>
            <a:off x="2440080" y="3368520"/>
            <a:ext cx="1062720" cy="2160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sm" type="triangle" w="sm"/>
            <a:tailEnd len="sm" type="triangle" w="sm"/>
          </a:ln>
        </p:spPr>
      </p:cxnSp>
      <p:cxnSp>
        <p:nvCxnSpPr>
          <p:cNvPr id="165" name=""/>
          <p:cNvCxnSpPr>
            <a:stCxn id="166" idx="0"/>
            <a:endCxn id="166" idx="1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67" name=""/>
          <p:cNvCxnSpPr>
            <a:stCxn id="166" idx="2"/>
            <a:endCxn id="166" idx="3"/>
          </p:cNvCxnSpPr>
          <p:nvPr/>
        </p:nvCxnSpPr>
        <p:spPr>
          <a:xfrm flipH="1">
            <a:off x="2466360" y="3379320"/>
            <a:ext cx="1013400" cy="1080"/>
          </a:xfrm>
          <a:prstGeom prst="straightConnector1">
            <a:avLst/>
          </a:prstGeom>
          <a:ln w="381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66" name=""/>
          <p:cNvSpPr/>
          <p:nvPr/>
        </p:nvSpPr>
        <p:spPr>
          <a:xfrm>
            <a:off x="2486160" y="3230640"/>
            <a:ext cx="974520" cy="298440"/>
          </a:xfrm>
          <a:prstGeom prst="leftRightArrow">
            <a:avLst>
              <a:gd name="adj1" fmla="val 50000"/>
              <a:gd name="adj2" fmla="val 6500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8440" y="2727360"/>
            <a:ext cx="134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1960" y="4630680"/>
            <a:ext cx="1084320" cy="70164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35160" y="3703680"/>
            <a:ext cx="284040" cy="887400"/>
          </a:xfrm>
          <a:prstGeom prst="upDownArrow">
            <a:avLst>
              <a:gd name="adj1" fmla="val 50000"/>
              <a:gd name="adj2" fmla="val 62195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243480" y="1096920"/>
            <a:ext cx="2394000" cy="4578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629400" y="1535040"/>
            <a:ext cx="1600200" cy="12956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WebSphe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at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nterchang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57720" y="3271680"/>
            <a:ext cx="820800" cy="141480"/>
          </a:xfrm>
          <a:prstGeom prst="leftRightArrow">
            <a:avLst>
              <a:gd name="adj1" fmla="val 50000"/>
              <a:gd name="adj2" fmla="val 115493"/>
            </a:avLst>
          </a:prstGeom>
          <a:solidFill>
            <a:srgbClr val="00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120" bIns="241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69000" y="27385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1000" y="4033800"/>
            <a:ext cx="141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ODBC Link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291080" y="3047760"/>
            <a:ext cx="1222200" cy="555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66000"/>
          </a:bodyPr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S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50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ach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891480" y="2884320"/>
            <a:ext cx="225360" cy="965520"/>
          </a:xfrm>
          <a:prstGeom prst="upDownArrow">
            <a:avLst>
              <a:gd name="adj1" fmla="val 50000"/>
              <a:gd name="adj2" fmla="val 85290"/>
            </a:avLst>
          </a:prstGeom>
          <a:solidFill>
            <a:srgbClr val="000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91480" y="3890880"/>
            <a:ext cx="1203120" cy="1017720"/>
          </a:xfrm>
          <a:prstGeom prst="flowChartMagneticDisk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708600" y="4986360"/>
            <a:ext cx="22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ystem databas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45280" y="727200"/>
            <a:ext cx="99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z/OS 1.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69880" y="5357880"/>
            <a:ext cx="2260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Config databas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C3BEE-B8A1-44A1-A443-987DC8608F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ssess Your Data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9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ested end user review of individu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migrate data objects currently i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4862520" y="2298600"/>
            <a:ext cx="359892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686761-A650-41ED-A83F-FAEDED89ADF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ommon WDI 3.2 Pitfalls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70000" y="1326960"/>
            <a:ext cx="4670280" cy="46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is lengt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d to run job multiple times in lab environment due to “loose end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044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ing experience for test and production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convert the standards in use prior to X12 4.1 - otherwise use client format download from the we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22360" y="1550880"/>
            <a:ext cx="2262240" cy="3902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CE2EA-64D1-4836-84AE-E53EE3E7118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rvival is Key!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the best laid plans can fail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 B is 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 with the f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485040" y="1805040"/>
            <a:ext cx="1915920" cy="2865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DD3A3-DAEC-44B0-8C25-B7049F1DF89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Provide Support As Needed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12400" y="2095200"/>
            <a:ext cx="7162920" cy="358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r data validation in WDI 3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me maps were converted but did not compile clea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d through missing mandatory seg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required to make changes in two test systems for the time being - to keep systems in syn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 3.1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6856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DI 3.2 Cli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0">
              <a:lnSpc>
                <a:spcPct val="115000"/>
              </a:lnSpc>
              <a:spcBef>
                <a:spcPts val="62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86320" y="579600"/>
            <a:ext cx="2973600" cy="1912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03CD9-1AB4-4325-8E5C-7C39E80FC69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Summary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779040" y="2292120"/>
            <a:ext cx="7348680" cy="354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survived!  So far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 environment exists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users have a stable test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gration testing contin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sion/migration job for production should be a breez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575320" y="779400"/>
            <a:ext cx="2624040" cy="2281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36172-166F-4B6E-9499-4BC7B79420C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dventures in Migratio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752560" y="3112560"/>
            <a:ext cx="3300480" cy="25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tyann Johns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johnsen@metlif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3209760" y="370692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11ECAD-1FA0-49A9-A138-48ED1060069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#1 U.S. Life Insurer  -  $2.5 trillion of life insurance in-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rgest non-medical health provider of institutional employee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7 million lives under group benefi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nked #1 in most group product areas - life, auto and homeowners, and long-term c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stomers 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.S. - 13 million house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840" indent="-280080">
              <a:lnSpc>
                <a:spcPct val="115000"/>
              </a:lnSpc>
              <a:spcBef>
                <a:spcPts val="1001"/>
              </a:spcBef>
              <a:spcAft>
                <a:spcPts val="300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ternational - 8 million customers in 11 lo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sted on NYSE - April 2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15000"/>
              </a:lnSpc>
              <a:spcBef>
                <a:spcPts val="1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tLife is in 1 out of every 5 households in the U.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182760" y="811080"/>
            <a:ext cx="2124360" cy="498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DCCEE-FA5E-4FBD-ACB7-67BB12E10A3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spcBef>
                <a:spcPts val="2001"/>
              </a:spcBef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ducts and Services offered by MetLife and its affiliates inclu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urance (Life, Long-Term Care, Disability, Dental, Auto &amp; Homeown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lnSpc>
                <a:spcPct val="115000"/>
              </a:lnSpc>
              <a:spcBef>
                <a:spcPts val="1500"/>
              </a:spcBef>
              <a:spcAft>
                <a:spcPts val="451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ividual bank produ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3182760" y="851040"/>
            <a:ext cx="2124360" cy="498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3FC23-6856-43F1-9E75-78C9AA9A74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y Objectives for the WDI 3.2 Migration 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97040" y="1461600"/>
            <a:ext cx="7348320" cy="39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ltimately, to survive yet another migratio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Lab environment for system tes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stable test and production environments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vert existing data objects to WDI 3.2 for immediate use by end users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D4140D-6E00-45C0-B9FC-6C2C792FD8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Know Your Environment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82640" y="1652760"/>
            <a:ext cx="3160800" cy="32623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525840" y="1420560"/>
            <a:ext cx="5105520" cy="443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y upgrad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OS 12/31/04 - No other reason needed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y-to-any trans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ase of 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started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 3.1 on z/OS 1.2 - Host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7.2 for Cli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vailability - however, not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we are to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DI 3.2 on z/OS 1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65120">
              <a:lnSpc>
                <a:spcPct val="115000"/>
              </a:lnSpc>
              <a:spcBef>
                <a:spcPts val="561"/>
              </a:spcBef>
              <a:spcAft>
                <a:spcPts val="337"/>
              </a:spcAft>
              <a:buClr>
                <a:srgbClr val="2db6b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2 Connect v8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C6DA3-2583-4187-A79E-10FFE20141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Create a Migration Plan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01800" y="1870200"/>
            <a:ext cx="4551120" cy="364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VS upgrade to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2 Connect upgrade to v8.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of all current   RSU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allation of multiple Fixpa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cumentation for end us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26200" y="1825560"/>
            <a:ext cx="3413160" cy="308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B28E11-43E2-4A48-86F0-06D74E97470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VS upgrade to z/OS 1.4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12400" y="2664000"/>
            <a:ext cx="734868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ing is everyth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d WDI 3.2 on Lab environment and then   re-ipl’d operating system between z/OS 1.2 and z/OS 1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, test and then test again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91000" y="789120"/>
            <a:ext cx="2067120" cy="21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B6DF5-1BB0-4506-8D4F-A0D0F1D6CCC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Middleware:  Upgrade to DB2 Connect Version 8.1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06040" y="2953800"/>
            <a:ext cx="7348680" cy="31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ning on dedicated LPAR IBM P690 Regatta ser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tching pairs of servers configured for test and produ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mary server onsite with secondary server failover offs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Site Selector used for automated geographic failover for outages on primary server - greater “up”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 time updating to the host in client-server mode via ODBC 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al for multi-user environment with concurrent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505240" y="1217520"/>
            <a:ext cx="387324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AAB5F-9227-43EE-94CD-C7D1DF95F2B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2400" y="54576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889fb"/>
                </a:solidFill>
                <a:latin typeface="Arial"/>
              </a:rPr>
              <a:t>Application of RSU Maintenance</a:t>
            </a:r>
            <a:endParaRPr b="0" lang="en-US" sz="28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82640" y="1498680"/>
            <a:ext cx="4146480" cy="420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! Do not neglect regular maintenance while completing the installation and migration to a new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15000"/>
              </a:lnSpc>
              <a:buClr>
                <a:srgbClr val="2db6b3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maintenance across operating systems, DB2 sub-systems and LPAR'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lnSpc>
                <a:spcPct val="115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5259240" y="1542960"/>
            <a:ext cx="3453120" cy="3733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A2353-3014-4098-B467-B0A29DA5BC3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9T21:59:50Z</dcterms:created>
  <dc:creator>Dave Schwartz</dc:creator>
  <dc:description/>
  <dc:language>en-US</dc:language>
  <cp:lastModifiedBy>IBM_User</cp:lastModifiedBy>
  <cp:lastPrinted>2004-07-30T12:21:29Z</cp:lastPrinted>
  <dcterms:modified xsi:type="dcterms:W3CDTF">2004-08-04T16:57:28Z</dcterms:modified>
  <cp:revision>934</cp:revision>
  <dc:subject/>
  <dc:title>IBM Software Group</dc:title>
</cp:coreProperties>
</file>