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EDC5-6A71-43E2-940D-364BFA8D5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indows management, if the user is having a problem with too many Windows open too often, Preferences may be se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store List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From(“WH”) could als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ift-Dra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ource-based map.  The source is EDI; the target is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elope/De-envelope  process is assumed for EDI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ft and drag to copy rather than move a command within the command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apping elements always drag element icon (with pencil) to element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8BA5-C3D4-4C6E-9712-E1DD139BF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8F40-7AB5-42BC-951B-56444C6DC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BC68-76B6-4F16-B2FC-1ED8AAB88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1A9D-AF85-439C-82B7-29A3975A5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E109-233B-420E-8EF1-358B0E4BC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076C-FED6-46E4-9097-B41616167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8063-02E9-4B68-85BE-FC27DADF3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D070-94A5-41FF-92C8-2DD74EFED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93C4C-9B3C-4B0E-AE24-C4B97EE69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D062-6769-490A-8D1D-B50BC6438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2F30-2688-4D05-A2D0-1790CF784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8DDD-8B20-443E-AFDE-BB636C435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1663-BADA-49D9-8057-B8A5413785D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Data Transformation Mapping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Tips, Tricks, and Techniques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200400"/>
            <a:ext cx="558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Transformation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o, Hints, Tips, and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41880" y="411480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ury Griffith 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LOGO3X2%20trans" descr=""/>
          <p:cNvPicPr/>
          <p:nvPr/>
        </p:nvPicPr>
        <p:blipFill>
          <a:blip r:embed="rId1"/>
          <a:stretch/>
        </p:blipFill>
        <p:spPr>
          <a:xfrm>
            <a:off x="6705720" y="4059360"/>
            <a:ext cx="19238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e Map Open from Multiple System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38080" y="990720"/>
          <a:ext cx="73152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600200"/>
            <a:ext cx="723888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indows / Pane Manag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9560" y="243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p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162864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403848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0920" y="28954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d without hes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4800" y="44956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ommo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8006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urrent ac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Source/Target 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080" y="0"/>
          <a:ext cx="905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0"/>
                    <a:ext cx="905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760" y="1371600"/>
            <a:ext cx="34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6640" y="1355760"/>
            <a:ext cx="326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88040" y="60213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514600"/>
            <a:ext cx="6721560" cy="253116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ing a lot of drag and drop mapping, you may wish to maximize the size of your Source and Target panes and minimize your Command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43480" y="5823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0080" y="1324080"/>
            <a:ext cx="7840080" cy="5262840"/>
            <a:chOff x="460080" y="1324080"/>
            <a:chExt cx="7840080" cy="5262840"/>
          </a:xfrm>
        </p:grpSpPr>
        <p:sp>
          <p:nvSpPr>
            <p:cNvPr id="222" name=""/>
            <p:cNvSpPr/>
            <p:nvPr/>
          </p:nvSpPr>
          <p:spPr>
            <a:xfrm>
              <a:off x="460080" y="1339920"/>
              <a:ext cx="34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1720" y="1324080"/>
              <a:ext cx="326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9600" y="600552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5040" y="579132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Command Pan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9144000" cy="723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25640" y="147960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3960" y="144792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6720" y="147960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31800" y="144792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7390080" y="453348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7374240" y="4561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882960"/>
            <a:ext cx="6949800" cy="204372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reating a lot of logic, you may wish to maximize the size of your Command pane and minimize the Source, Target,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2200" y="254484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3760" y="251316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ips, Tricks, Techniqu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2400" y="1279080"/>
            <a:ext cx="73486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Assignmen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“This” an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Groups / Commen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235-234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Source-Target and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2DICT Transl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ick Assig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quickly produce an assignment statement, drag a variable to the element or field being ma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ource based map, this will produc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= \path-for-current-element\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target based map this will produc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-for-current-element\\ =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place the variable with the path or value to be mapped (drag or type ov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4800600"/>
            <a:ext cx="76960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124160"/>
            <a:ext cx="76960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is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rovides a reference to the current element or field being ma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may be used instead of the longer path reference to an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Table 2\10 M PO1 Loop\10 M PO1\5 O 639\\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replaced with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the mapping is within element 6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/Comment Grou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eries of commands or comments are related, they may be placed in a “Grou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may be used to identify the group of commands or com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 may then be copied or moved as an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ple Completed</a:t>
            </a: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 Gro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960560"/>
          <a:ext cx="914400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0560"/>
                    <a:ext cx="914400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pping 235-234 Pai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end/Receive maps, “&amp;SAMEAS” could be used to map subsequent pairs of 235-234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AS is not availabl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 m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T maps, the mapping commands may be copied, but the paths need to be modified for each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a better 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10880" y="545760"/>
            <a:ext cx="6791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404720"/>
            <a:ext cx="73486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major differences betwe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ll the options for dragging data i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lors to identify Systems (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mapping windows and 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various tricks and techniques to improve mapp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ypical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41360" y="4154400"/>
            <a:ext cx="824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the mapping is done within element 234.  The command group can be copied for each of the remaining 235-234 pairs, but all of the element paths will need to be modified for each set of 235-234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plified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419720"/>
            <a:ext cx="86868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map element 235 to a variable and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234 mappings to reference element 234.  We now need the “Qual=This” for each 235, but the 234 command group can be copied for each succeeding 235-234 pa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 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155600"/>
          <a:ext cx="708660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55600"/>
                    <a:ext cx="70866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ose Occurre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3929040"/>
          <a:ext cx="845820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29040"/>
                    <a:ext cx="84582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pping separately defined elements or fields in the source document to a repeating element in the target document, the repeating element must be “closed” to cause a new occurrence to be produced rather than overlaying the existing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5457960"/>
            <a:ext cx="2743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urce-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143000"/>
            <a:ext cx="7348680" cy="26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trieve data from your targe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re data into your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From(Tar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To(Source or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93960" y="4191120"/>
            <a:ext cx="2381040" cy="735120"/>
            <a:chOff x="993960" y="4191120"/>
            <a:chExt cx="2381040" cy="735120"/>
          </a:xfrm>
        </p:grpSpPr>
        <p:sp>
          <p:nvSpPr>
            <p:cNvPr id="271" name=""/>
            <p:cNvSpPr/>
            <p:nvPr/>
          </p:nvSpPr>
          <p:spPr>
            <a:xfrm>
              <a:off x="1025640" y="422280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93960" y="419112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21880" y="4191120"/>
            <a:ext cx="2271600" cy="735120"/>
            <a:chOff x="4421880" y="4191120"/>
            <a:chExt cx="2271600" cy="735120"/>
          </a:xfrm>
        </p:grpSpPr>
        <p:sp>
          <p:nvSpPr>
            <p:cNvPr id="274" name=""/>
            <p:cNvSpPr/>
            <p:nvPr/>
          </p:nvSpPr>
          <p:spPr>
            <a:xfrm>
              <a:off x="4456800" y="4222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1880" y="419112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888640" y="543888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=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8800200">
            <a:off x="3198600" y="4788000"/>
            <a:ext cx="1371600" cy="395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8640 h 395280"/>
              <a:gd name="textAreaBottom" fmla="*/ 296640 h 3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2799800">
            <a:off x="3307320" y="4786560"/>
            <a:ext cx="1600200" cy="394920"/>
          </a:xfrm>
          <a:custGeom>
            <a:avLst/>
            <a:gdLst>
              <a:gd name="textAreaLeft" fmla="*/ 249480 w 1600200"/>
              <a:gd name="textAreaRight" fmla="*/ 1400040 w 1600200"/>
              <a:gd name="textAreaTop" fmla="*/ 98640 h 394920"/>
              <a:gd name="textAreaBottom" fmla="*/ 296280 h 39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SmileyFlipping" descr=""/>
          <p:cNvPicPr/>
          <p:nvPr/>
        </p:nvPicPr>
        <p:blipFill>
          <a:blip r:embed="rId1"/>
          <a:stretch/>
        </p:blipFill>
        <p:spPr>
          <a:xfrm>
            <a:off x="7315200" y="4543560"/>
            <a:ext cx="628560" cy="639720"/>
          </a:xfrm>
          <a:prstGeom prst="rect">
            <a:avLst/>
          </a:prstGeom>
          <a:ln w="0">
            <a:noFill/>
          </a:ln>
        </p:spPr>
      </p:pic>
      <p:pic>
        <p:nvPicPr>
          <p:cNvPr id="280" name="red_md_wht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1225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, be aware that “empty” does not mean containing blanks or zero.  Empty means a null value with a length of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9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determine if a fixed-length field is blank 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75300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81968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3843360"/>
            <a:ext cx="75438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trComp(\ITEMS\UPC-CODE,‘                   ’) NE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42861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876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IsEmpty(TrimLeft(\ITEMS\UPC-CODE)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066680" y="1523880"/>
          <a:ext cx="6780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780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292320" y="3429000"/>
            <a:ext cx="2474280" cy="2549520"/>
            <a:chOff x="292320" y="3429000"/>
            <a:chExt cx="2474280" cy="2549520"/>
          </a:xfrm>
        </p:grpSpPr>
        <p:sp>
          <p:nvSpPr>
            <p:cNvPr id="292" name=""/>
            <p:cNvSpPr/>
            <p:nvPr/>
          </p:nvSpPr>
          <p:spPr>
            <a:xfrm rot="5400000">
              <a:off x="685440" y="3885840"/>
              <a:ext cx="1676160" cy="762120"/>
            </a:xfrm>
            <a:custGeom>
              <a:avLst/>
              <a:gdLst>
                <a:gd name="textAreaLeft" fmla="*/ 209520 w 1676160"/>
                <a:gd name="textAreaRight" fmla="*/ 1466640 w 1676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320" y="5154480"/>
              <a:ext cx="247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mapping command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29000" y="2257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2438280"/>
            <a:ext cx="152280" cy="190512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7320" y="43117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MappingHelp" descr=""/>
          <p:cNvPicPr/>
          <p:nvPr/>
        </p:nvPicPr>
        <p:blipFill>
          <a:blip r:embed="rId3"/>
          <a:stretch/>
        </p:blipFill>
        <p:spPr>
          <a:xfrm>
            <a:off x="3657600" y="378000"/>
            <a:ext cx="4629240" cy="648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2DI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bound EDI data, when DICTIONARY is not specified, translation table EDI2DICT is used to determine the EDI dictionary based on the value in GS08 or UNH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2120" y="3914640"/>
          <a:ext cx="74530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14640"/>
                    <a:ext cx="74530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90560" y="3200400"/>
          <a:ext cx="73897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3200400"/>
                    <a:ext cx="7389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rong with thi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2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3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4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5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6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7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8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9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0: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5920" y="2930040"/>
            <a:ext cx="5745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Field Used as 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38088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6040800" y="762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9960" y="32349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a Boolean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Qualifi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403200"/>
          <a:ext cx="914400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200"/>
                    <a:ext cx="91440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021720" y="708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vs. Send/Receiv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 to/from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ed” command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” to “Any”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natural, intui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may be associated with source or targe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trComp for String Compari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Target Element as a Sour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380880"/>
          <a:ext cx="982980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8298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174000" y="776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8560" y="2666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Element Not Mapp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762120"/>
          <a:ext cx="91440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945400" y="1066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 Qualifier Not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869080" y="990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from Target El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380880"/>
          <a:ext cx="9144000" cy="60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132600" y="744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3580920"/>
            <a:ext cx="60958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keyword not a st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hould not be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316080"/>
          <a:ext cx="914400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813640" y="696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Target Revers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380880"/>
          <a:ext cx="9144000" cy="606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021720" y="685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is on the PO1 Segment and should be on the PO1 Loo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380880"/>
          <a:ext cx="9144000" cy="608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640480" y="754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ccurrence is Requi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0" y="316080"/>
          <a:ext cx="9144000" cy="58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945760" y="642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dience Hints and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0574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259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1240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657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911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4724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25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5791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nd/Receive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089160"/>
            <a:ext cx="27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EDI Standard may be created from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 (Fixed to Fixed Translation -Send only) or it may be produced by converting an XML DTD (DTD Conve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52388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05740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28932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- Fixed length fields with record IDs,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1676520"/>
            <a:ext cx="2362320" cy="533160"/>
          </a:xfrm>
          <a:prstGeom prst="rightArrow">
            <a:avLst>
              <a:gd name="adj1" fmla="val 50000"/>
              <a:gd name="adj2" fmla="val 1107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65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68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62040" y="4419720"/>
            <a:ext cx="3222360" cy="735120"/>
            <a:chOff x="662040" y="4419720"/>
            <a:chExt cx="3222360" cy="735120"/>
          </a:xfrm>
        </p:grpSpPr>
        <p:sp>
          <p:nvSpPr>
            <p:cNvPr id="171" name=""/>
            <p:cNvSpPr/>
            <p:nvPr/>
          </p:nvSpPr>
          <p:spPr>
            <a:xfrm>
              <a:off x="690840" y="445140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040" y="441972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27520" y="4464000"/>
            <a:ext cx="3028680" cy="719280"/>
            <a:chOff x="4727520" y="4464000"/>
            <a:chExt cx="3028680" cy="719280"/>
          </a:xfrm>
        </p:grpSpPr>
        <p:sp>
          <p:nvSpPr>
            <p:cNvPr id="174" name=""/>
            <p:cNvSpPr/>
            <p:nvPr/>
          </p:nvSpPr>
          <p:spPr>
            <a:xfrm>
              <a:off x="4755960" y="447984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7520" y="446400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A Drag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447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Pan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rag Op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809880" y="2057400"/>
            <a:ext cx="1676520" cy="3049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160" y="2362320"/>
            <a:ext cx="1676520" cy="30456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16200000">
            <a:off x="1522800" y="3352680"/>
            <a:ext cx="1676520" cy="30492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505320" y="4495680"/>
            <a:ext cx="1676160" cy="304920"/>
          </a:xfrm>
          <a:custGeom>
            <a:avLst/>
            <a:gdLst>
              <a:gd name="textAreaLeft" fmla="*/ 262080 w 1676160"/>
              <a:gd name="textAreaRight" fmla="*/ 1467000 w 16761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rot="19593000">
            <a:off x="3087360" y="3487320"/>
            <a:ext cx="2525760" cy="325440"/>
          </a:xfrm>
          <a:custGeom>
            <a:avLst/>
            <a:gdLst>
              <a:gd name="textAreaLeft" fmla="*/ 394920 w 2525760"/>
              <a:gd name="textAreaRight" fmla="*/ 2210400 w 252576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rot="16200000">
            <a:off x="2018160" y="5219640"/>
            <a:ext cx="762120" cy="38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88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91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85560" y="4267080"/>
            <a:ext cx="3222360" cy="735120"/>
            <a:chOff x="385560" y="4267080"/>
            <a:chExt cx="3222360" cy="735120"/>
          </a:xfrm>
        </p:grpSpPr>
        <p:sp>
          <p:nvSpPr>
            <p:cNvPr id="194" name=""/>
            <p:cNvSpPr/>
            <p:nvPr/>
          </p:nvSpPr>
          <p:spPr>
            <a:xfrm>
              <a:off x="414360" y="429876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560" y="426708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46480" y="4267080"/>
            <a:ext cx="3028680" cy="719280"/>
            <a:chOff x="5046480" y="4267080"/>
            <a:chExt cx="3028680" cy="719280"/>
          </a:xfrm>
        </p:grpSpPr>
        <p:sp>
          <p:nvSpPr>
            <p:cNvPr id="197" name=""/>
            <p:cNvSpPr/>
            <p:nvPr/>
          </p:nvSpPr>
          <p:spPr>
            <a:xfrm>
              <a:off x="5074920" y="428292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6480" y="426708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ystems / Databases / Col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8247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Always select different color backgrounds for your “Systems” (datab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280" y="2590920"/>
            <a:ext cx="77119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opened, it is opened from the currently selected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have several copies of the same object open from different databa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eaningful colors, such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- Develop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- Test / Quality Contr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-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6:03:31Z</dcterms:created>
  <dc:creator>Maurice E. Griffith</dc:creator>
  <dc:description/>
  <dc:language>en-US</dc:language>
  <cp:lastModifiedBy>Maurice E. Griffith</cp:lastModifiedBy>
  <dcterms:modified xsi:type="dcterms:W3CDTF">2004-06-08T22:11:21Z</dcterms:modified>
  <cp:revision>37</cp:revision>
  <dc:subject/>
  <dc:title>WDI Conference 2004</dc:title>
</cp:coreProperties>
</file>