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937375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F55502-D748-4031-9772-4521E18514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6C2A99-C1F2-4625-8826-33934A4B26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97BB70-0FFD-43F4-ADAD-79DDEDA744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35F404-12D1-4949-B096-7A331E6E61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0CD60E-5466-47EA-AF4A-1D0AD01F02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A7E3FA-8FE8-44CE-A75E-FBD36F5674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229FE8-0FE0-4A67-B9F8-10EA382839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B3D9DD-3176-4FF6-B4A2-820F6A899C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BA2AE4-DA81-435B-BA15-807147884C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A44ECB-709E-456D-A9F3-95139F5333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D8718E-13D1-4B48-B989-F3A9495919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690129-F1B5-4372-AEE9-D32C95A4A8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532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37480" y="52560"/>
            <a:ext cx="371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  |  WebSphere softw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502320"/>
            <a:ext cx="59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Soaring into the Future – WebSphere Data Interchang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91240" y="6499080"/>
            <a:ext cx="3340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154080" y="65019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C2676-7560-4484-800C-A8C8F9189CFD}" type="slidenum"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9315360" y="-133200"/>
            <a:ext cx="16290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any w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Background should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not be modifi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73400" y="7067520"/>
            <a:ext cx="46908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itle/subtitle/confidentiality line: 10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V="1">
            <a:off x="229068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flipV="1">
            <a:off x="761364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 flipH="1">
            <a:off x="9175320" y="21096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9175320" y="14860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 flipH="1">
            <a:off x="-1131840" y="14760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 flipH="1">
            <a:off x="-1073520" y="1139760"/>
            <a:ext cx="1001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-2335320" y="1014480"/>
            <a:ext cx="215928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heading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blue R120 | G137 | B251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Maximum length: 2 lin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body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1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quare bullet color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teal R045 | G182 | B179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text length: 5 principal po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-2335320" y="1584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4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7613640" y="7072200"/>
            <a:ext cx="17352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" name=""/>
          <p:cNvGrpSpPr/>
          <p:nvPr/>
        </p:nvGrpSpPr>
        <p:grpSpPr>
          <a:xfrm>
            <a:off x="311040" y="6889680"/>
            <a:ext cx="2119320" cy="671760"/>
            <a:chOff x="311040" y="6889680"/>
            <a:chExt cx="2119320" cy="671760"/>
          </a:xfrm>
        </p:grpSpPr>
        <p:sp>
          <p:nvSpPr>
            <p:cNvPr id="21" name=""/>
            <p:cNvSpPr/>
            <p:nvPr/>
          </p:nvSpPr>
          <p:spPr>
            <a:xfrm>
              <a:off x="311040" y="7067520"/>
              <a:ext cx="211932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tional slide number: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pt Arial Bold, whit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V="1">
              <a:off x="326880" y="6889680"/>
              <a:ext cx="1440" cy="3650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" name=""/>
          <p:cNvSpPr/>
          <p:nvPr/>
        </p:nvSpPr>
        <p:spPr>
          <a:xfrm>
            <a:off x="0" y="-647640"/>
            <a:ext cx="9631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 flipH="1">
            <a:off x="-1263600" y="3189240"/>
            <a:ext cx="11923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>
            <a:off x="1447920" y="141120"/>
            <a:ext cx="0" cy="23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1447920" y="647856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"/>
          <p:cNvSpPr/>
          <p:nvPr/>
        </p:nvSpPr>
        <p:spPr>
          <a:xfrm>
            <a:off x="0" y="6175440"/>
            <a:ext cx="1457280" cy="29988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" name="" descr=""/>
          <p:cNvPicPr/>
          <p:nvPr/>
        </p:nvPicPr>
        <p:blipFill>
          <a:blip r:embed="rId3"/>
          <a:stretch/>
        </p:blipFill>
        <p:spPr>
          <a:xfrm>
            <a:off x="1442880" y="6175440"/>
            <a:ext cx="7710480" cy="29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16744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7524720" y="687240"/>
            <a:ext cx="1001880" cy="4003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00664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62200" y="5491080"/>
            <a:ext cx="444168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324560" y="62704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186228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162160" y="7067520"/>
            <a:ext cx="46911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fidentiality/date line: 13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isclaimer information may also be appear in this area.  Place flush left, aligned at bottom, 8-10pt Arial 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315360" y="630360"/>
            <a:ext cx="167184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 any way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-1131840" y="141768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-857520" y="2665440"/>
            <a:ext cx="785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17980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9175320" y="8938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-2335320" y="2540160"/>
            <a:ext cx="215928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Presentation title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length:  2 li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-2335320" y="128592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7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513560" y="7072200"/>
            <a:ext cx="18496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751356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-647640"/>
            <a:ext cx="5715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315360" y="4008600"/>
            <a:ext cx="162900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r client presentations, client’s logo may go in this a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9175320" y="4341960"/>
            <a:ext cx="27468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6842160" y="5418000"/>
            <a:ext cx="1946160" cy="3524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4716360"/>
            <a:ext cx="471600" cy="45720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4716360"/>
            <a:ext cx="47160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36720" y="4716360"/>
            <a:ext cx="471240" cy="457200"/>
          </a:xfrm>
          <a:prstGeom prst="rect">
            <a:avLst/>
          </a:prstGeom>
          <a:solidFill>
            <a:srgbClr val="01a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405080" y="4716360"/>
            <a:ext cx="47124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1862280" y="4041720"/>
            <a:ext cx="2074680" cy="3016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1863720" y="4711680"/>
            <a:ext cx="7294680" cy="45576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8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92240" y="2227320"/>
            <a:ext cx="8604000" cy="19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ight Control – We Have a Problem…E-Notification</a:t>
            </a:r>
            <a:br>
              <a:rPr sz="2400"/>
            </a:br>
            <a:br>
              <a:rPr sz="2400"/>
            </a:b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raig Farney</a:t>
            </a:r>
            <a:br>
              <a:rPr sz="1800"/>
            </a:b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72040" y="3705120"/>
            <a:ext cx="375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6835680" y="3479760"/>
            <a:ext cx="202572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571680" y="11808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19656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ge II – Second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656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65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rror Handling Techniqu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6560" indent="-19656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Condition Code in Progra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0">
              <a:lnSpc>
                <a:spcPct val="7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Trading Partner not found, set code to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0">
              <a:lnSpc>
                <a:spcPct val="7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Invalid Data, set code to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0">
              <a:lnSpc>
                <a:spcPct val="7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x, set code to 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0">
              <a:lnSpc>
                <a:spcPct val="7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6560" indent="-19656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tilize Translator-Generated Condition C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0">
              <a:lnSpc>
                <a:spcPct val="7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Map Not Found, bypass communic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0">
              <a:lnSpc>
                <a:spcPct val="7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Missing Mandatory Element, continue and Log Err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0">
              <a:lnSpc>
                <a:spcPct val="7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Condition Code &lt; 4, Successful Translatio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0">
              <a:lnSpc>
                <a:spcPct val="7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6560" indent="-19656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Condition Code &gt; x, perform or do not perform next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6560" indent="-19656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to Process Log during each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xamples of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5408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xamples of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03360" y="11664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ge III – Intermed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tific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ands reach of Process Lo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 reaction time –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now about it w/o having to look at Process Lo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not have to be a programmer to find out what happe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supply more detailed and customized content –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gram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be expanded to deliver other information –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orts, etc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760" y="545760"/>
            <a:ext cx="82458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xamples of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17040" y="116640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19404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ge III – Intermed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404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4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tification Techniqu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4040" indent="-19404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processes that are dedicated to not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4040" indent="-19404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ecute notification processes when certain conditions ex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0">
              <a:lnSpc>
                <a:spcPct val="7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f Condition Code = x, execute notification process step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0">
              <a:lnSpc>
                <a:spcPct val="7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f Condition Code &lt; y, execute notification process step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4040" indent="-19404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ecute notification processes before or after certain process ste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0">
              <a:lnSpc>
                <a:spcPct val="7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fter Translation step, send ema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0">
              <a:lnSpc>
                <a:spcPct val="7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on completion, send ema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404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4040" indent="-19404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s can be used to generate content of not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0">
              <a:lnSpc>
                <a:spcPct val="7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0">
              <a:lnSpc>
                <a:spcPct val="7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tus Repor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0">
              <a:lnSpc>
                <a:spcPct val="7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enerate process statisti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0">
              <a:lnSpc>
                <a:spcPct val="7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997 Reports / Late Noti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0">
              <a:lnSpc>
                <a:spcPct val="7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rogate DI PRTFILE for Translation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35672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4616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xamples of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95440" y="113616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ge III – Intermed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7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mai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7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g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7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sole / operator messa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7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stant Messa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7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-Line Application to view Process Notific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on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mail Control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ding Partner Control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xamples of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67960" y="1776240"/>
            <a:ext cx="71931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Email Error Mess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non-zero return code has been issued by job E4JLBX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ease review each non-zero job step to determine if this is just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arning or an actual erro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xamples of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28240" y="1776240"/>
            <a:ext cx="8643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Email Status Repor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llowing are the summary totals and dollars by trading partner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artner Name             Total Invoices   Total          Stat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ANK OF AMERICA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76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$205,620.44      ACCEP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GENERAL MOTORS                18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$152.25      ACCEP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D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20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$1,135,077.27      ACCEP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OTAL ACCEPTED--------&gt;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114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$1,340,849.9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OTAL REJECTED--------&gt;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0                 $.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xamples of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34800" y="1776240"/>
            <a:ext cx="812664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997 Late Notic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TTENTION: GENERAL MO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Our records indicate the following Functional Acknowledgements (FA997s) have not been received for the invoice (811) transaction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you have not retrieved your invoices within the last 7 day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lease do so.  Should you be experiencing any problems, ple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ntact us.  We will be happy to assist yo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-Invoices sent on May 22, 200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SA/GS CONTROL NUMBERS: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23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OTAL NO INVOICES SENT: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MMUNICATIONS METHOD: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T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MONTH: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May 200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xamples of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26960" y="1319040"/>
            <a:ext cx="7988400" cy="46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DI PRTFILE error progra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o Until EO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ad DI PR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f pos 10 = ‘Message: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tential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f pos 15 not = TR0401 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N1040 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N1043 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N1045 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rite error message and code to Process Lo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t program condition code =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d-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d-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d 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D-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xamples of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82160" y="1288800"/>
            <a:ext cx="824724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JCL for DI PRTFILE error progra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 Until EO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ad DI PRT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pos 10 = ‘Message: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tential err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pos 15 not = TR0401 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N1040 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N1043 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N1045 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 err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rite error message and code to Process Lo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t program condition code =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-i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-i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 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-PROGR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xamples of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44440" y="1669680"/>
            <a:ext cx="74851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Email Control Fi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1  EMCNTL-REC.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2  EMCNTL-KEY.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5  EMCNTL-RECORD-ID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C X(20)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5  EMCNTL-RECORD-SEQ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C 9(9).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2  EMCNTL-EMAIL-ADDRESS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C X(50).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2  EMCNTL-THE-REST-GEN.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5  EMCNTL-PARTNER-NAME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C X(30).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5  EMCNTL-ISA-ID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C X(15).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5  EMCNTL-BILLING-SYSTE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C X(4).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5  EMCNTL-REPORT-NAME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C X(20).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5  FILLER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C X(52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Flight Control We Have a Problem...E-Notification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Agenda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12400" y="2157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sons why to explore E-Not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nefits of E-Not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ges of E-Not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s of E-Not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llenges and Opportun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/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xamples of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34800" y="1287000"/>
            <a:ext cx="811080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Trading Partner Control Fi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1  TPCNTRL-RE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2  TPCNTRL-KE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5  TPCNTRL-NAM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C X(30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2  TPCNTRL-COMM-METHO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C X(3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8  TPCNTRL-CD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 'CDR'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8  TPCNTRL-DIRECT-CONNECT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 'DIR'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8  TPCNTRL-EMAIL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 'EML'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8  TPCNTRL-FTP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 'FTP'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8  TPCNTRL-VAN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 'VAN'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2  TPCNTRL-PTNR-EMAIL-ADDRES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C X(35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2  TPCNTRL-SEND-FILE-READY-EMAI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C X(01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2  TPCNTRL-997-LATE-EMAI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C X(01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2  TPCNTRL-STATU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C X(01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8  TPCNTRL-ACTIV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 'A'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8  TPCNTRL-INACTIV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 'I'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2  TPCNTRL-INACTIVATE-DAT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C X(0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602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xamples of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110628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ge IV – Advan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utomated re-run and cor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uces human intervention –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n reduce err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 reaction time –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blems can be addressed before someone gets around to looking at 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d Customer Service –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ess data more quickly and comply with Service Level Agre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228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xamples of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1200" y="115056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ge IV – Advan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utomated re-run and correction Techniqu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 invalid or incomplete data to a ‘recycle’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nd email containing details of what was recycled and w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 ‘recycle’ file during normal process ru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data has been corrected it will be processed next r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nd email when ‘recycle’ file has been successfully proces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Email and Trading Partner Control 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xamples of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Recycle Email Notific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e FTP processing for JUL03 had rejected transactions do to incomplete FTP Setu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e following FTP files were placed on hol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4.P.EDIFTP.JUL03.T133251.T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4.P.EDIFTP.JUL03.T133251.T9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xamples of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Re-run Email Notific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e FTP reprocessing job E4JEFTPS released the following files from FTP hold and distributed them as follow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4.P.EDIFTP.JUL03.T133251.T05 - sent to FTP serv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4.P.EDIFTP.JUL03.T133251.T93 - sent to FTP serv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hallenges and Opportunitie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allen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e line between too much, and too little information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 not want an Email System that also does ED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ed to communicate the right information to the right peo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ous levels of detai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5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nal communications vs. External communic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5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ed to communicate the right information to the right peo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5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23720" y="1625760"/>
            <a:ext cx="82454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7889fb"/>
                </a:solidFill>
                <a:latin typeface="Arial"/>
              </a:rPr>
              <a:t>Questions</a:t>
            </a:r>
            <a:br>
              <a:rPr sz="7200"/>
            </a:br>
            <a:r>
              <a:rPr b="0" lang="en-US" sz="7200" spc="-1" strike="noStrike">
                <a:solidFill>
                  <a:srgbClr val="7889fb"/>
                </a:solidFill>
                <a:latin typeface="Arial"/>
              </a:rPr>
              <a:t>&amp;</a:t>
            </a:r>
            <a:br>
              <a:rPr sz="7200"/>
            </a:br>
            <a:r>
              <a:rPr b="0" lang="en-US" sz="7200" spc="-1" strike="noStrike">
                <a:solidFill>
                  <a:srgbClr val="7889fb"/>
                </a:solidFill>
                <a:latin typeface="Arial"/>
              </a:rPr>
              <a:t> Answers</a:t>
            </a:r>
            <a:endParaRPr b="0" lang="en-US" sz="72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Reasons Why to Explore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ed a better way to be notified of Production Job / Process Failures 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ed to be proactive in reacting to minor failures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ve manual process controls and audits that could be automated 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ve Disparate / Multiple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t deliver information to many people - some may not have access to core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ce Level Agreements (SL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Benefits of E-Notification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active instead of rea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ides single interface for problem determination / re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uces time needed to solve a probl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ides historical audit of system / process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Stages of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12920" y="1463760"/>
            <a:ext cx="2006280" cy="4495680"/>
          </a:xfrm>
          <a:prstGeom prst="rect">
            <a:avLst/>
          </a:prstGeom>
          <a:gradFill rotWithShape="0">
            <a:gsLst>
              <a:gs pos="0">
                <a:srgbClr val="0033cc"/>
              </a:gs>
              <a:gs pos="100000">
                <a:srgbClr val="7889fb"/>
              </a:gs>
            </a:gsLst>
            <a:lin ang="10800000"/>
          </a:gra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Stage 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asi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ocess Lo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583000" y="1447920"/>
            <a:ext cx="1895400" cy="4495680"/>
          </a:xfrm>
          <a:prstGeom prst="rect">
            <a:avLst/>
          </a:prstGeom>
          <a:gradFill rotWithShape="0">
            <a:gsLst>
              <a:gs pos="0">
                <a:srgbClr val="0033cc"/>
              </a:gs>
              <a:gs pos="100000">
                <a:srgbClr val="7889fb"/>
              </a:gs>
            </a:gsLst>
            <a:lin ang="10800000"/>
          </a:gra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Stage I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condary 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asi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rror Handl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660920" y="1447920"/>
            <a:ext cx="1950840" cy="4495680"/>
          </a:xfrm>
          <a:prstGeom prst="rect">
            <a:avLst/>
          </a:prstGeom>
          <a:gradFill rotWithShape="0">
            <a:gsLst>
              <a:gs pos="0">
                <a:srgbClr val="0033cc"/>
              </a:gs>
              <a:gs pos="100000">
                <a:srgbClr val="7889fb"/>
              </a:gs>
            </a:gsLst>
            <a:lin ang="10800000"/>
          </a:gra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Stage II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termedia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conda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otif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738840" y="1447920"/>
            <a:ext cx="2006640" cy="4495680"/>
          </a:xfrm>
          <a:prstGeom prst="rect">
            <a:avLst/>
          </a:prstGeom>
          <a:gradFill rotWithShape="0">
            <a:gsLst>
              <a:gs pos="0">
                <a:srgbClr val="0033cc"/>
              </a:gs>
              <a:gs pos="100000">
                <a:srgbClr val="7889fb"/>
              </a:gs>
            </a:gsLst>
            <a:lin ang="10800000"/>
          </a:gra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Stage IV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dvanc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termedia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utomated re-run and correc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817720" y="1967040"/>
            <a:ext cx="4253040" cy="606240"/>
          </a:xfrm>
          <a:custGeom>
            <a:avLst/>
            <a:gdLst>
              <a:gd name="textAreaLeft" fmla="*/ 664560 w 4253040"/>
              <a:gd name="textAreaRight" fmla="*/ 3721680 w 4253040"/>
              <a:gd name="textAreaTop" fmla="*/ 151560 h 606240"/>
              <a:gd name="textAreaBottom" fmla="*/ 454680 h 606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990000"/>
              </a:gs>
              <a:gs pos="100000">
                <a:srgbClr val="ff3300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66"/>
                </a:solidFill>
                <a:latin typeface="Tahoma"/>
              </a:rPr>
              <a:t>Volume / Complexity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250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75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0"/>
                            </p:stCondLst>
                            <p:childTnLst>
                              <p:par>
                                <p:cTn id="17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67760" y="561600"/>
            <a:ext cx="82458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xamples of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17040" y="118224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ge I - Bas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Lo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ains Information about each step execut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ple or Single Process Log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ides run statistics / performance metr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cuments process 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entifies warnings or err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entral Historical reposi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67760" y="545760"/>
            <a:ext cx="82458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xamples of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7040" y="116496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ge I - Bas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Log Conten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 Date/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b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 Name/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n Statis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# Records proces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# Records writ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t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rning / Error mess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lator Outpu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PRTFILE / FFSEXC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d Date/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976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xamples of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84320" y="1166760"/>
            <a:ext cx="88992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ge I - Bas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Log Examp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************************************************************************************************************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WRAP/CONVERT EDI FILE   - FAAL         PROGRAM: E4UNWR02    START DT: 07/23/03  START TM: 11:06:04 JOB: E4JFARXS (TEST&amp;PROD)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RAPPED RECORDS READ &gt;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0001337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ADER RECORDS DROPPED &gt;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0000007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CHANGES PROCESSED &gt;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0001026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WRAPPED RECORDS WRITTEN &gt;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0009290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WRAP/CONVERT EDI FILE   - FAAL         PROGRAM: E4UNWR02     END  DT: 07/23/03  END  TM: 11:06:06  RECS PROC:      1337  RETN CODE:0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760" y="545760"/>
            <a:ext cx="82458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xamples of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7040" y="118224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ge II – Second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rror Handlin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rols process flow by using condition c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ecute / bypass steps when certain conditions ex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tilizes basic O/S fea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be written to Process Lo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9T21:59:50Z</dcterms:created>
  <dc:creator>Dave Schwartz</dc:creator>
  <dc:description/>
  <dc:language>en-US</dc:language>
  <cp:lastModifiedBy>IBM_USER</cp:lastModifiedBy>
  <dcterms:modified xsi:type="dcterms:W3CDTF">2003-09-17T17:42:11Z</dcterms:modified>
  <cp:revision>959</cp:revision>
  <dc:subject/>
  <dc:title>IBM Software Group</dc:title>
</cp:coreProperties>
</file>