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0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97789-B263-450A-B227-A2B464D9C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9EDD3-7010-4B3F-8101-F26F03DA9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F6349-6912-44B5-8077-EE9E68E4E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3CEED-2E60-4DD3-8F5B-3FA1AD8E91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D35F4-F5D3-4A46-855A-71CC054DC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BB7CA-AD00-4DD0-9061-8C88A5CBD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E381C-D805-444D-A733-E97F463D5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8261C-8531-42AE-B053-A3FF66411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003D6-8B10-44E1-9291-2779A2D7A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2DF2A-234E-44C0-AA8B-BC0A1A320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BCFC1-CAE7-414A-AE59-1AB600954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D8DE-0736-4EB5-BCC3-7512A845C6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034F-1694-45D3-B847-42C1B42F3773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Integration Competency Cen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DI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2240" y="1892160"/>
            <a:ext cx="5587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from the Flight Deck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uck Fer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44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jo Commun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46640" y="2419200"/>
            <a:ext cx="1009800" cy="128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46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Ollie Ollie 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4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nte Pythons Flying Transa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-Data Movers and Shak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Global Data Ex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Data Exchange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76440" y="1379520"/>
            <a:ext cx="59580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3597120" cy="3668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840200" y="1579680"/>
            <a:ext cx="3598920" cy="3252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75160" y="4862520"/>
            <a:ext cx="309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Compres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 with 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62880" y="4862520"/>
            <a:ext cx="333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anded data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Less 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at to keep an eye 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1276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Security/Encry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49680" y="3121200"/>
            <a:ext cx="261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Question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Burlington Northern Santa Fe Railway Company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one of the largest railroad networks in 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,000 Route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ing 28 States and two Canadian Provi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vers the western two thirds of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s more Intermodal equipment then any other Railroad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's largest grain-hauling railr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uls enough coal to generate more than 10 percent of the electricity produced in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s approximately 38,000 pe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approximately a million transactions every d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WebServic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32280" y="112392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4460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2560" y="256392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7720" y="257796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7532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52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3" name=""/>
          <p:cNvCxnSpPr>
            <a:stCxn id="148" idx="3"/>
            <a:endCxn id="150" idx="1"/>
          </p:cNvCxnSpPr>
          <p:nvPr/>
        </p:nvCxnSpPr>
        <p:spPr>
          <a:xfrm>
            <a:off x="4132440" y="291888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4" name=""/>
          <p:cNvCxnSpPr>
            <a:stCxn id="150" idx="3"/>
            <a:endCxn id="149" idx="1"/>
          </p:cNvCxnSpPr>
          <p:nvPr/>
        </p:nvCxnSpPr>
        <p:spPr>
          <a:xfrm>
            <a:off x="5784840" y="2918880"/>
            <a:ext cx="519840" cy="900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5" name=""/>
          <p:cNvCxnSpPr>
            <a:stCxn id="146" idx="3"/>
            <a:endCxn id="148" idx="0"/>
          </p:cNvCxnSpPr>
          <p:nvPr/>
        </p:nvCxnSpPr>
        <p:spPr>
          <a:xfrm flipH="1">
            <a:off x="3564720" y="1856880"/>
            <a:ext cx="10440" cy="685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56" name=""/>
          <p:cNvSpPr/>
          <p:nvPr/>
        </p:nvSpPr>
        <p:spPr>
          <a:xfrm>
            <a:off x="3032280" y="369720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4460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22560" y="513720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6588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7532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2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3" name=""/>
          <p:cNvCxnSpPr>
            <a:stCxn id="158" idx="3"/>
            <a:endCxn id="160" idx="1"/>
          </p:cNvCxnSpPr>
          <p:nvPr/>
        </p:nvCxnSpPr>
        <p:spPr>
          <a:xfrm>
            <a:off x="4132440" y="549252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4" name=""/>
          <p:cNvCxnSpPr>
            <a:stCxn id="160" idx="3"/>
            <a:endCxn id="159" idx="1"/>
          </p:cNvCxnSpPr>
          <p:nvPr/>
        </p:nvCxnSpPr>
        <p:spPr>
          <a:xfrm>
            <a:off x="5780160" y="5492520"/>
            <a:ext cx="56736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5" name=""/>
          <p:cNvCxnSpPr>
            <a:stCxn id="156" idx="3"/>
            <a:endCxn id="158" idx="0"/>
          </p:cNvCxnSpPr>
          <p:nvPr/>
        </p:nvCxnSpPr>
        <p:spPr>
          <a:xfrm flipH="1">
            <a:off x="3564720" y="4430880"/>
            <a:ext cx="10440" cy="68472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66" name=""/>
          <p:cNvSpPr/>
          <p:nvPr/>
        </p:nvSpPr>
        <p:spPr>
          <a:xfrm>
            <a:off x="6365880" y="3505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65880" y="4351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6" idx="1"/>
            <a:endCxn id="160" idx="3"/>
          </p:cNvCxnSpPr>
          <p:nvPr/>
        </p:nvCxnSpPr>
        <p:spPr>
          <a:xfrm flipH="1">
            <a:off x="5779800" y="3854160"/>
            <a:ext cx="567360" cy="1639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9" name=""/>
          <p:cNvCxnSpPr>
            <a:stCxn id="167" idx="1"/>
            <a:endCxn id="160" idx="3"/>
          </p:cNvCxnSpPr>
          <p:nvPr/>
        </p:nvCxnSpPr>
        <p:spPr>
          <a:xfrm flipH="1">
            <a:off x="5779800" y="4700160"/>
            <a:ext cx="567360" cy="793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70" name=""/>
          <p:cNvSpPr/>
          <p:nvPr/>
        </p:nvSpPr>
        <p:spPr>
          <a:xfrm>
            <a:off x="7410240" y="3584520"/>
            <a:ext cx="180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Tim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Maintain Conne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XML 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6320" y="120168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Tradi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8400" y="37893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Web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112920" y="1584360"/>
            <a:ext cx="190044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112920" y="1932120"/>
            <a:ext cx="4224600" cy="1473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112920" y="2282760"/>
            <a:ext cx="2187720" cy="112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112920" y="2552760"/>
            <a:ext cx="3090960" cy="85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112920" y="2822040"/>
            <a:ext cx="4224600" cy="5828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12920" y="3405240"/>
            <a:ext cx="2187720" cy="1000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12920" y="3405240"/>
            <a:ext cx="2803680" cy="906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341960" y="2822040"/>
            <a:ext cx="2995560" cy="2124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1880" y="3502080"/>
          <a:ext cx="8450280" cy="23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502080"/>
                    <a:ext cx="845028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61880" y="1044720"/>
          <a:ext cx="8104320" cy="24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044720"/>
                    <a:ext cx="81043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511920" y="32338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Van F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2280" y="8604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haracter 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6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22360" y="2430360"/>
            <a:ext cx="73486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/MI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G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war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l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ED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C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TRAI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Fla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8520" y="54936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Data 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538280" y="1325520"/>
            <a:ext cx="6451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26T15:51:16Z</dcterms:modified>
  <cp:revision>881</cp:revision>
  <dc:subject/>
  <dc:title>IBM Software Group</dc:title>
</cp:coreProperties>
</file>